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1FB-9D6E-414F-9026-6DBFBF61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62FE-B3D8-465A-A006-A7B3C6CB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BB7E-95DD-4AF2-BADE-30D68177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1EA-6DAF-4754-B7E4-DDDEC955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0463-CAAD-4EB4-905A-1C552F62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76AA-646E-46E7-891D-840C410A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F2EC-B83A-400C-B9B2-DBA6D685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5420-6D8C-49A8-86F3-A5C6AE5DB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3928-2AC7-49E5-A540-9CFC4974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4B12-9EC4-4794-9FD0-9B9B23A0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10DE-F999-4920-9CCB-FD9258D4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BEB3-5074-43AC-9659-10856F15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2821-CEAF-4B4B-A8B1-224BDA98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09D7-EB88-45F4-A517-31DF73B8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02D1-D70F-495A-9E01-1C72F419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94E8-947B-4966-951C-A70DE2531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62BA-0030-4CFA-ACBB-E3E12E90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F271-0E59-4671-AF05-894CF7EA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E70A-75DA-44FC-A3A3-6EAFA1F6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93C0-9436-4C5F-BD28-C6587F11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FB35-DFFC-449B-9060-BA61EAA6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E62-BFA8-4850-8F8D-5C7E2CF8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4B1-F702-4F43-A4FE-7F4A7519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594-0D18-4EEC-B829-2F01F842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CFB5-70E6-48EB-826B-1B09D7BDC0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85FD-973D-43BC-A184-FE644928859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01120" cy="9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b7"/>
                </a:solidFill>
                <a:latin typeface="Arial Black"/>
              </a:rPr>
              <a:t>Тема: «Обеспечение и защита прав несовершеннолетних» </a:t>
            </a:r>
            <a:br>
              <a:rPr sz="5400"/>
            </a:br>
            <a:r>
              <a:rPr b="0" lang="ru-RU" sz="1800" spc="-1" strike="noStrike">
                <a:solidFill>
                  <a:srgbClr val="ffffb7"/>
                </a:solidFill>
                <a:latin typeface="Arial Black"/>
              </a:rPr>
              <a:t>социальный педагог МБОУ СОШ № 3 В.А. Евтушенко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8360" y="1989000"/>
            <a:ext cx="8136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Работа по охране прав детства и здоровья учащихся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составление социального паспорта школы, списков: неблагополучных семей, опекаемых, детей из многодетных и остронуждающихся семей, «группы риска», уч-ся, состоящих на учёте в ПДН и ВШ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существление рейдов и посещений в такие семьи, совместно, инспектором ПДН (составление протоколов), специалистами КДН и ЗП. В ходе рейдов сотрудником предлагается юридическая, психологическая и социальная помощ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формление актов обследований условий воспитания и проживания детей, характеристик, представлений, служебных писем, запросов, ходатайст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существление здоровьесберегающих мероприятий (лекции, слайдовые программы, просмотры фильмов, выступление враче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Работа с семьями воспитанник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557000"/>
            <a:ext cx="80074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ение условий воспитания в семь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проведение разъяснительной и просветительской работы по вопросам воспитания, правовым вопросам среди родителей: общешкольные родительские собрания, консультации со специалиста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принятие конкретных мер по обеспечению полноценного развития и воспитания детей родителями или лицами их заменяющи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уществление социально-диспетчерской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оформление документов в различные инстанции для оказания разносторонней помощи детям и их семьям: АКТы обследований, представления в КДН и ЗП, характеристики, служебные письма, запросы и тп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привлечение к решению проблем других служб и специалист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Схема взаимодействия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57160" y="2928600"/>
            <a:ext cx="74296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О                                          ОДМ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КДН и ЗП                          ОПДН                                              УЦЗН                                     УСЗ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бщешкольный родительский комите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666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К осуществляет свою деятельность по трём направления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учебный сект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сектор, осуществляющий помощь в В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сектор по работе с трудными подростками и семьями, вызывающими тревогу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Работа ОР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дители входящие в состав данного сектора совместно с социальным педагогом и классными руководителями осуществляют посещение семей, рейды  с представителями  инспекции ПД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ставители ОРК входят в состав КЗПД (комиссии по защите прав детства) проводимых в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имают участие в работе малых педсоветов и родительских комите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Основные причины роста числа неблагополучных семей и обучающихся, состоящих на учете: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075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лая эффективность законодательной базы, оставляющей безнаказанными  родителей за злоупотребление спиртными напитками, уклонение от воспитания и ненадлежащее воспитание ребенк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сутствие единых требований школы и родителей в воспитании детей (нежелание некоторых родителей поддерживать требования педагогов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трата нравственных ориентиров во многих семьях, чему во многом способствуют С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ально-низкий уровень дохода семьи (низкая заработная плата, либо ее отсутствие, неполные семьи, алкоголизм родителе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j0300840"/>
          <p:cNvPicPr/>
          <p:nvPr/>
        </p:nvPicPr>
        <p:blipFill>
          <a:blip r:embed="rId1"/>
          <a:stretch/>
        </p:blipFill>
        <p:spPr>
          <a:xfrm>
            <a:off x="5219640" y="3213000"/>
            <a:ext cx="3097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конодательная баз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ституция РФ, «Всеобщая декларация прав человека», «Конвенция ООН  о правах ребёнка», «Гражданский кодекс РФ», «Кодекс о браке и семье РФ», «Кодекс административных правонарушений», «Уголовно-процессуальный кодекс РФ», «Семейный кодекс РФ», Закон РФ «Об образовани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Работа, направленная на предупреждение правонарушений и безнадзорности, ведется согласно Федеральному Закону № 120 с учетом социальных групп: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28972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и, находящиеся под опек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щиеся «группы риска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щиеся, состоящие на ВШУ и учете в ПДН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щиеся из неблагополучных сем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щиеся из многодетных/малообеспеченных семе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и инвали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j0300840"/>
          <p:cNvPicPr/>
          <p:nvPr/>
        </p:nvPicPr>
        <p:blipFill>
          <a:blip r:embed="rId1"/>
          <a:stretch/>
        </p:blipFill>
        <p:spPr>
          <a:xfrm>
            <a:off x="2771640" y="4581360"/>
            <a:ext cx="3240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ные цели социальной работы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773000"/>
            <a:ext cx="80074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1.Увеличение степени самостоятельности обучающихся и родителей их способности контролировать свою жизнь и эффективно разрешать возникающие проблемы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2. Создание условий, в которых ребята и их родители могут в максимальной мере проявить свои возможности и получить всё, что им положено по закону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3. Создание условий, при которых человек, несмотря на душевный срыв или жизненный кризис, может жить, сохраняя чувство собственного достоинства и уважения к себе со стороны окружающих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4. Достижения такого результата, когда необходимость в помощи социального педагога и др. служб у ученика и родителей «отпадёт»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чи: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азание социально-правовой помощи подросткам и их родител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связей детей и родителей с теми системами: социальными институтами, социумом, которые могут обеспечить решение этих пробл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явление причин социальной дезадаптации детей и подрост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 средств и способов их устра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охраны и защиты прав и законных интересов несовершеннолетн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нняя профилактика и коррек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Направления деятельности социальных педагогов в учреждениях здравоохранения: 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- средовая и социально- психологическая реабилитац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а с семьями детей и подрост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ессиональная ориентац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ганизационная, учебно- методическая и просветительская работа с ближайшим социальным окружением детей и подрост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- правовое консультирование и информиро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280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новные направления деятельности социального педагога: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светительская деятель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социальной среды ребенка, семь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ение адресной социально-педагогической помощи семь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коррекционной программы, совместно с психологом, зам. директором по ВР и другими специалист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Основные формы профилактической работ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6000" y="2133360"/>
            <a:ext cx="741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ультации для обучающихся, преподавателей, родителей; организация психологических, медицинских и др. обследований, составление программ и выработка рекомендаций по индивидуальной работе со школьниками, индивидуальные собеседования с родителями, детьми и учителями, КЗПД, малые педсоветы,  вовлечение детей и подростков в различные формы внеклассной и внешкольной воспитательной деятельности, контроль занятости в УД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Контроль успеваемости и посещаем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дивидуальные беседы с деть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осмотр классных журнал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ежедневный контроль посещения и поведения на уроках через дневник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осещение уроков в классах, где возникли пробл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онсультации с коллегами (психологом, классными руководителями, учителями-предметникам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омиссии по защите прав детства в школ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01:51:59Z</dcterms:created>
  <dc:creator>1</dc:creator>
  <dc:description/>
  <dc:language>en-US</dc:language>
  <cp:lastModifiedBy>Бардик</cp:lastModifiedBy>
  <dcterms:modified xsi:type="dcterms:W3CDTF">2014-01-27T07:05:08Z</dcterms:modified>
  <cp:revision>57</cp:revision>
  <dc:subject/>
  <dc:title>Анализ работы социального педагога за 2008-2009 учебный год</dc:title>
</cp:coreProperties>
</file>